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93CD-2821-4639-9252-F65030F11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061-7AFD-4739-8EFE-0788B614987A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traordinary idea began in NC 4 yrs ago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62E1-E601-4E2B-ADFD-17DB5DDAFC4E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9941-68A5-44FF-BF88-BDA81E3384D1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B9E4-E4C9-48BB-92F8-CFA384B90860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351E-7E0D-4293-B9B9-1DEBC4384A2B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EEA9-3D53-462B-AE21-CCB406C2DBBF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courses are online. How LEO links with these organizations/program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F425-0718-4E9D-A86B-5915C4816265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 started at the top, Office of the Governo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ABB9-9BEB-4881-83C9-E6C3AF45C39F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New Bureaucrac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8 NCCCS campu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36CE-2FFC-44EA-9D27-B1B1BC3FF18C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d with NCVPS to offer knowledge of graduation requirements and take advantage of DLC/D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CDE7-9061-4374-8484-BE6E3E14304D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reer &amp; College: Ready, Set, Go - Increase the number of students taking college credit courses while in high school; graduating from high school; going to college; and completing a degree from community colleges, colleges and universit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1726-C85B-4E9E-AFBD-4050954D320C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C121-4C5D-43F8-80C1-CAC0AB69BEA4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eptance – more high school students than ever are capable of success in a college cour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39B-0CA9-4403-B1C4-0D587AF9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E05-FE25-457F-B1F0-9AE5D074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C90E2-1229-4685-A928-9FF933DB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E6717-847F-460F-9802-EED26BFF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E1ABD-F2A9-431F-9CA0-04AA1CCF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C96D4-D7A7-4815-A877-1FC4A82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1D858-D904-4650-A561-0BC3BBC1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551EB-E368-422B-9655-0C0C195A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C246D-E5F2-4C57-80E5-E49A6CF1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3CB00-885E-401F-9847-22290393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B615A-C189-4B1F-A267-FCE9337B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B5524-3C3B-48A1-B7C4-01F022C2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DB5-4C74-41AC-B412-AD8F6C00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7AAEF-A6B5-4388-9418-D5C46EAA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D4AE7-2CBF-4AC4-A0B9-B81E2C56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906C4-F294-4A73-9E0D-90624638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5D451-F932-438B-8CD6-63DF9AB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0216D-494A-4CA9-AE4C-81FCE91E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D2EDF-DE7F-4987-AD34-ACF2B1EF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25612-DB1F-47E2-ACFE-6BA12B8D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6F978-CAB8-49F7-8933-DEF5F0FE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B0A7E-448C-4736-80DC-797F19D7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1A530-9F23-4BC2-9DFD-988F34C1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8E2-B8BC-4DE7-8135-79756210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23F0C-72F6-4950-8E84-282A4F11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E27CD-49AC-4C8B-BB4F-839B686D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EF18B-E91B-46BA-95A9-CA321C8E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02854-B70C-4B34-B714-E30B65E5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D8E11-7611-48A5-A00C-CAF0C8C0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9C0BD-472A-470F-8767-7E020DC1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45142-663F-4F68-A96E-96BC7203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BF0E6-64C2-4F2E-889D-447EB12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33E1E-B2DC-4CE0-9409-605D9AE9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446CE-45E1-407A-AAA5-0935E10F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1EB5-F089-4E0D-A1E6-5C8EB29B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1C407-31F1-4096-B2BA-47956AEE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C7A03-3121-4557-B754-5AC1A3AB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24DC2-53F3-43C1-8053-CAD1C718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8EAE8-2BB2-471A-A0C2-610E914D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8C446-7296-43B4-AA9B-2D834727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17CF2-91B6-4B50-92FD-7C8255C0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82016-C73C-4161-9B27-7C89FCC6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F0F7A-7C0B-409D-B653-DBB72276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0CDFC-C124-40D7-96BE-0935FB66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AA7E6-2A08-464B-9A0D-5B92EA5B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97A8-AA37-402D-82F4-001D2735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EF134-F873-405E-847A-2B1AEED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D32FF-B01D-4A07-B1AD-6FCAC97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1743E-1255-4FB9-811E-BEE021D3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2B781-592F-4095-B484-A7F6E67D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DB87A-1140-4105-B3B0-8D07E939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BF6C0-6120-44EB-AC15-52D93F69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EC8A9-7383-4190-BA01-1A862555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C63E5-D295-4EBB-9B44-B3C4EA82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395A5-65C9-4E0B-92B8-ABD56D51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684B5-27E9-49FF-AAFE-0D59548E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E2E3-F5F2-44A7-9A20-130E725F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90E58-1656-477D-A8C0-02BBFEED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DBA14-6AA5-4B02-9857-2DC8335F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6A030-A2C6-408C-9601-14C3A0A5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50FD4-93B1-49F7-BB74-BB4BAD2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346D4-963C-4000-87E4-1CF167B6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D6AF3-3FCA-4B04-B1B9-154ED783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32E9A-6BEF-4E1D-9893-6276902E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E2F57-80AE-48A4-A377-51D0F05B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35AC2-8B58-429A-85B1-F1037407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82595-5E55-4D6A-9F70-2AA4A16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CE7D-25BB-4B04-9813-A5D09CFE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7BE7D-EADB-42F0-8C0D-EF263067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20025-6688-4D98-8FAF-D703D236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F0FA1-FE14-43DC-B436-3CE9F4F3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C8430-45CF-4916-8E4E-BB896F0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C32E4-88B0-4E2D-BA6F-C63B783F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63FD4-0DED-4CED-87B9-94D7E8F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B710E-DCC9-4237-8A06-7AFF8EDB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AAE1C-980E-45DA-A16C-089F7175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89D0C-4522-4A9C-96B3-66A68F26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99928-525B-43CC-A09C-166699CB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07B1-7897-4AC4-A8E6-F10B4BD4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F9593-B594-47BD-860F-4EEA09FD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55235-5F61-4869-9E80-66817E1C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3E553-F35A-47D6-B36F-31D9D494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70BEF-2022-4D03-8709-3F7106B4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CEDEB-AC48-4734-9DBD-2D8C6480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C6581-E9A7-4425-BE0B-FFAC179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C9261-7613-482B-86C6-7B0563E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91E8A-55E6-4C5E-8A2F-8E33BDD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5BBB7-4E4C-4DA8-9A50-D9950EE9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5AB75-82A0-4817-A24A-57AFA71E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29AC-788E-44A6-A232-59C55C38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7B2C9-1D91-4AB0-8559-ECA1F7A9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27DF-3B72-42D6-BECC-B45217E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91A-9D99-428F-9FD3-9680DB9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6CF4-D35B-4F46-91D2-25492B8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804A-98C9-42D9-863E-BDB09A5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00AD-E94C-4D9D-AC73-79F948E0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2D0F-80CE-4997-AA0C-8025199F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ED4A-E22F-4378-8DB9-08E8A4BD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FC95-7CD3-4FFA-AB9C-C1D1BB38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06CE-7F7E-48C8-B276-4177C289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7D20-BA4E-4430-AC4F-438404FC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B07C-5941-49C4-A70A-81C210A9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EB79-555C-4EED-97F6-33137325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761-F723-4066-AEE9-058F71C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CE56-D4DB-4195-8442-D0694B9B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4A1B-E46F-47F3-93AB-AEBE9373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AA9C-99DA-4274-ADAA-F9E4401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303F-0636-4BF7-A280-D303CB3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D278-130E-4176-81AF-736B6508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3C25-E41E-430A-A4D5-61876AF1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3F50-3CE2-4C2A-B28A-CD13379E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993D-44F9-4D53-BAA0-883A3A35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B2FE7-F04C-4085-8264-0DFCD8C2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7A5BD-58FA-4BDA-A96F-1DA04E2A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6F5-04B7-437C-881E-DF90A14B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DF89-D374-49C6-A046-BE71FC2E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A545F-1445-4AE0-8569-6623D7DA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D244-9251-4AF7-98CA-29207270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360E-CEB6-4524-8CE4-E9C7E24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CAF3-76EF-44AB-8398-64EBF11A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AB3A-2933-4C2D-878D-6362BBD2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15E5-4BBF-448B-B4C5-760D1DA2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3C26-04AB-4A1B-9AD5-A9E27431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A8A10-2A29-480E-A7DC-94AF0B94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E456-989A-44C6-814E-A740AF60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484-7BA8-4DAB-9D0E-65BCFCB5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CC5FC-447F-4744-A5CA-DC9F2337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D065B-736E-4E2D-9612-D5C2C06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350C-62EA-4172-AF37-72245CFD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9C84-0B80-448D-95CF-D2A5E62D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71553-C188-4473-9B5F-017BFE5B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2D5E-BF3B-4691-B349-B9F2EE3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75A7-EB8C-49A2-9B6E-0AAD1C43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3206D-6AEF-4C7A-BE8C-09846D1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63063-7D9B-495E-9A27-9696A563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9D9F3-6633-41F6-BE54-BC427C65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634-C1E9-4821-888D-F1241F73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680A-86AA-4950-A277-0CA8C0CA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50662-E91E-41E0-A3C2-6A9D151C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40598-B2F0-42AC-98B0-4861D4AA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34D04-AB67-44C9-A651-295B5D74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D472-54DC-44DA-8B7F-B4FC3D5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53E9E-8E52-46E5-B5FB-F37DEC48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432FD-E70B-4403-8931-A1CFDD92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3D5F7-2287-4901-A4D7-2C9FB977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118F2-7969-40F6-A445-E107A246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8945A-DEAE-443C-9B14-C59056CF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184-6724-4AD4-8609-4CA47825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69534-48C4-4E22-AC5F-CC4C4C41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1416A-81D3-44ED-BB8F-506CC649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DF78-7A30-48DF-8833-E7938EC9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A5E39-FB36-4601-94FF-7B6B6308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C0BFB-A4D6-4A85-94C6-0221BC98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89949-3582-4A8E-883A-D1F148EE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871F1-C183-4DA4-9A59-B8C89291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C9C9B-6D3C-4E17-8638-94403F4A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2D463-FDA7-4ADF-8F8E-E63E3E2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2967-675C-45C5-BE05-F97A8DDC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62B-75CA-46BA-888D-7C660DFC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CE3E9-AC91-4FA8-AC89-5F214991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94A9C-2720-4C93-9520-EBD7A524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24913-6917-4598-AD2E-71B5A2E4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BD591-53CB-40B1-9DD8-0172A8BD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CA5A9-E5E1-41AB-B6DB-55EA114E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0E1C5-2711-4C62-9BC7-A9481B3E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DEBD0-6387-46BF-812A-3E65BE0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BF652-2915-4B9E-9F1B-19270D4A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17C99-097C-4AE8-A37D-918A2505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88ED1-C173-4305-92F4-A99A4395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1A4-8719-46CF-A0E7-1E20EC34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80D07-B026-452C-8280-47AA97FA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05515-8136-4337-9183-E2DE0719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5B407-5974-4FC6-86D2-B784A0C1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86A68-12E6-4F9D-8C3A-38A3B739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BAD15-6631-4A1F-8E23-0109ECD0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EA0A2-8164-4BE9-A7AF-C1CE02BD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FBBC9-6B61-46B4-AAAA-0201CE03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D0978-A023-405E-826E-3757AFD2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4C6FA-FD82-43C7-9621-5B5F1F03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1586C-F1DF-4F2A-BD83-71E6F27A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rn and Earn O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1A4D-846E-4EA6-872B-8BE20493D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038A-BEF8-4D8F-8846-209572E40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8B6D-8B37-4587-8AD3-AB7B04002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53DD-6FB8-468B-A395-28ED4C53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025C-BB48-4E71-AD0B-0CF90DE58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D983-33AD-40FA-9583-DBA7E8A2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ff1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159A-2FB2-4EF0-8B56-5BD5C205D306}" type="slidenum">
              <a:rPr b="0" lang="en-US" sz="1400" spc="-1" strike="noStrike">
                <a:solidFill>
                  <a:srgbClr val="ebff1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A7A-C9AB-4527-A676-00E686EC4BC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5199-2C7C-49CA-B777-D576A539C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0ABB-E6AE-4C62-8C80-B2D283F33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EA25-CF75-4237-A045-190B98F7F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E438-E148-4A82-9969-336124C5E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9A3E-5837-4A2A-8E4F-ADB3CF501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2ACE-2C03-417B-ADFE-3D8B16B90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7B9B-C60E-4EAF-9F51-7B87F822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BCB3-30C2-4709-93DA-357D2BF6F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85440" y="2819520"/>
            <a:ext cx="8001000" cy="3124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Free College Course for High School Student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Virtual School Symposium</a:t>
            </a: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November 15, 2010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746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nrollment Trend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Reaction of district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99/100 Counties participating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nrollment Trend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College work/credit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Complex administration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Conflicting policies/schedules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Economic climate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746840" cy="2031840"/>
          </a:xfrm>
          <a:prstGeom prst="rect">
            <a:avLst/>
          </a:prstGeom>
          <a:ln w="0">
            <a:noFill/>
          </a:ln>
        </p:spPr>
      </p:pic>
      <p:sp>
        <p:nvSpPr>
          <p:cNvPr id="661" name="TextBox 7"/>
          <p:cNvSpPr/>
          <p:nvPr/>
        </p:nvSpPr>
        <p:spPr>
          <a:xfrm>
            <a:off x="380880" y="3048120"/>
            <a:ext cx="8763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Deborah Pedersen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Chief Learn and Earn Online Officer, deborah.pedersen@ncpublicschools.gov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Antonio Jordan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Director Joint High School Partnerships, jordana@nccommunitycolleges.edu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Beth Boyett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Director UNCG iSchool, 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beth_boyett@uncg.edu 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pic>
        <p:nvPicPr>
          <p:cNvPr id="626" name="Picture 5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746840" cy="2031840"/>
          </a:xfrm>
          <a:prstGeom prst="rect">
            <a:avLst/>
          </a:prstGeom>
          <a:ln w="0">
            <a:noFill/>
          </a:ln>
        </p:spPr>
      </p:pic>
      <p:sp>
        <p:nvSpPr>
          <p:cNvPr id="627" name="TextBox 7"/>
          <p:cNvSpPr/>
          <p:nvPr/>
        </p:nvSpPr>
        <p:spPr>
          <a:xfrm>
            <a:off x="380880" y="3048120"/>
            <a:ext cx="8763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Deborah Pedersen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Chief Learn and Earn Online Officer, deborah.pedersen@ncpublicschools.gov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Antonio Jordan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Director Joint High School Partnerships, jordana@nccommunitycolleges.edu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Beth Boyett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Director UNCG iSchool, 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beth_boyett@uncg.edu 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8001000" cy="20988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"/>
          <p:cNvPicPr/>
          <p:nvPr/>
        </p:nvPicPr>
        <p:blipFill>
          <a:blip r:embed="rId3"/>
          <a:stretch/>
        </p:blipFill>
        <p:spPr>
          <a:xfrm>
            <a:off x="914400" y="2743200"/>
            <a:ext cx="3230640" cy="13273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9" descr=""/>
          <p:cNvPicPr/>
          <p:nvPr/>
        </p:nvPicPr>
        <p:blipFill>
          <a:blip r:embed="rId4"/>
          <a:stretch/>
        </p:blipFill>
        <p:spPr>
          <a:xfrm>
            <a:off x="6629400" y="2743200"/>
            <a:ext cx="1762200" cy="2590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0" descr=""/>
          <p:cNvPicPr/>
          <p:nvPr/>
        </p:nvPicPr>
        <p:blipFill>
          <a:blip r:embed="rId5"/>
          <a:stretch/>
        </p:blipFill>
        <p:spPr>
          <a:xfrm>
            <a:off x="6078600" y="6095880"/>
            <a:ext cx="3065400" cy="762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logo_ncvps2"/>
          <p:cNvPicPr/>
          <p:nvPr/>
        </p:nvPicPr>
        <p:blipFill>
          <a:blip r:embed="rId6"/>
          <a:stretch/>
        </p:blipFill>
        <p:spPr>
          <a:xfrm>
            <a:off x="0" y="6149880"/>
            <a:ext cx="31240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Policy/Strategy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440" y="1523880"/>
            <a:ext cx="8458200" cy="5029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LEO Legislation</a:t>
            </a:r>
            <a:endParaRPr b="0" lang="en-US" sz="54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Office of the Governor 2007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13160" indent="-274320">
              <a:spcBef>
                <a:spcPts val="9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2008 Innovation in Gov’t Award from Harvard Kennedy School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General Assembly support 2009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Future 2011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xisting Organization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440" y="1447920"/>
            <a:ext cx="8458200" cy="5029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College Course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Participating NCCCS colleges</a:t>
            </a: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University Course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UNCG iSchool</a:t>
            </a: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NC Dept of Public Instruction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Liaison </a:t>
            </a: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NC Dept of Public Instruction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440" y="144756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K-20 Continuum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Right student, right course, right time”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NCVPS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Distance Learning Coordinators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Distance Learning Advisors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Governmental Support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SBOE Goals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21</a:t>
            </a:r>
            <a:r>
              <a:rPr b="0" lang="en-US" sz="3200" spc="-1" strike="noStrike" baseline="30000">
                <a:solidFill>
                  <a:srgbClr val="ebff16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 Century Skills 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Every student has opportunity to graduate with college transfer credit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Governor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Career College</a:t>
            </a: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: Ready, Set, Go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Increase students taking college credit courses in high school…</a:t>
            </a:r>
            <a:r>
              <a:rPr b="0" lang="en-US" sz="2800" spc="-1" strike="noStrike">
                <a:solidFill>
                  <a:srgbClr val="ebff1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11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nrollment Trend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4920" y="167652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Growth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2007-08: 4,101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2008-09: 9,097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2009-10:  11,698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nrollment Trend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Drivers/Change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Acceptance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STEM Legislative 2010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Funding 2010-2011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3:29:27Z</dcterms:created>
  <dc:creator>John C. Brim</dc:creator>
  <dc:description/>
  <cp:keywords/>
  <dc:language>en-US</dc:language>
  <cp:lastModifiedBy>Deborah Pedersen</cp:lastModifiedBy>
  <cp:lastPrinted>1904-01-01T00:00:00Z</cp:lastPrinted>
  <dcterms:modified xsi:type="dcterms:W3CDTF">2010-11-12T20:27:08Z</dcterms:modified>
  <cp:revision>96</cp:revision>
  <dc:subject/>
  <dc:title>North Carolina  Virtual Public School</dc:title>
</cp:coreProperties>
</file>